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wmf" ContentType="image/x-wmf"/>
  <Override PartName="/ppt/media/image10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5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FD1D-2DAB-4DF7-909D-F14C557F250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99FE-24FC-41D2-9159-DB2517D05D1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FDDA-8CAD-49C6-80FF-A3F93F844D7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927E-08E2-4603-813B-79C646AB191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5CB1-7C87-48DF-99AA-6591D12A39B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0FA2-6735-48AC-8E92-B15B70B93DC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70A8-25B7-4117-83B3-115C52CC10E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3DC7-C1EB-4DF6-9720-420EB90FDBB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467C-3F88-44D7-B553-F7485ECF238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6A8-52D1-48A2-B390-C5381083D37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37C9-5643-4CD8-B6BB-3397AB889A4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3666-A0E0-4ED6-B613-68D551182E4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3785-BBDE-4208-A4B5-72A79F35A3B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97EB-0A2A-485E-ACCF-F9DDDCB849B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7D58-85CE-46D4-B296-69B21B90BBE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2E50-903F-4612-9080-AD98AA0DCD1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2862-396B-425F-959E-46CD2913B3B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21DB-9967-400B-8CFD-F8964D5D167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FE07-BE77-4B81-ADBC-5921D68DEDA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5B298-F33F-4B85-A37B-347ADC75B8A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EDC0-C91E-4096-9351-4BDCBC694FC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FE44-E536-430B-8E5F-1B77233E609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8545-FE04-4DE3-8A0E-A3CB1B33851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57A7-8989-4DF9-B464-E9941EE9806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97EB-6BE2-46FD-A3C9-1F71DB4F568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08D4-E1A1-41EC-9ADA-806D7A1B261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18E9-0D54-4BA3-B902-3FCA90DF0E2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B672-4709-4EDE-89F4-1373BD10682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24CC-33F2-4ADC-8DA7-C91F848204D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1EAA-ACEE-49D2-8182-CEEAF2EC269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44B3-096B-4B50-B6C4-595EC18095F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F495-6C1D-4CD7-9905-98CFB21F72E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E901-4FE1-4CAF-9B9C-C342009AA65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5D25-4281-47CC-B7EB-622EF5563C3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3F2A-8A95-4726-854E-CAED73C5389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7EF7-32B4-4315-9684-E63F75A5E97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6BA8-BF32-47BD-A43C-A54D4C5A6EB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19DD-E6DB-427D-80C2-51AA3A7985E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1E99-EE29-4788-AA26-6ADD37EE54D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EC1C-1300-4C60-AC4E-7587F21DA12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A95C-8F10-4668-8CD3-EFDC8B4074A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F2CB-E138-44B8-B659-C5000EEC8D7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165C-2AF9-420F-9CFA-BCE445A7D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61D4B-B71E-4941-BB68-BE46EAFECC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484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A4022-374E-48D5-817C-63FBBFB68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90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34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46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90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34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F7EA8-F3CF-4C38-95CB-DD7D07E17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160" y="303120"/>
            <a:ext cx="83055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6B91-D7F0-41DB-9939-20E9BBCB3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484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468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484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490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53480" y="160020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46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490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53480" y="3988440"/>
            <a:ext cx="267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DBAD-6D8B-49A6-928C-F63549188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B0ED-D705-459F-B862-63C00341B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E71D-2C03-4376-947A-3FE65E958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303120"/>
            <a:ext cx="83055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234E-D806-4C32-A96D-10D0F03995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7885C-B5C1-4DBB-8C13-82AA24A72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484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870B-589E-44BF-884C-1FE79CC211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484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4680" y="3988440"/>
            <a:ext cx="8294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9705-D198-4E53-876F-3DD70E41B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704988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41797D81-F381-4E01-9D75-935F8DB9A45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538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4080" indent="-215640">
              <a:spcBef>
                <a:spcPts val="700"/>
              </a:spcBef>
              <a:buClr>
                <a:srgbClr val="fddca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228600">
              <a:spcBef>
                <a:spcPts val="700"/>
              </a:spcBef>
              <a:buClr>
                <a:srgbClr val="e35c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1904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190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190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10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 rot="10800000">
            <a:off x="0" y="-1800"/>
            <a:ext cx="209520" cy="6856200"/>
          </a:xfrm>
          <a:prstGeom prst="rect">
            <a:avLst/>
          </a:prstGeom>
          <a:gradFill rotWithShape="0">
            <a:gsLst>
              <a:gs pos="0">
                <a:srgbClr val="19385f"/>
              </a:gs>
              <a:gs pos="100000">
                <a:srgbClr val="8cc6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73080"/>
            <a:ext cx="9144000" cy="79200"/>
            <a:chOff x="0" y="73080"/>
            <a:chExt cx="9144000" cy="79200"/>
          </a:xfrm>
        </p:grpSpPr>
        <p:sp>
          <p:nvSpPr>
            <p:cNvPr id="6" name="Line 8"/>
            <p:cNvSpPr/>
            <p:nvPr/>
          </p:nvSpPr>
          <p:spPr>
            <a:xfrm>
              <a:off x="0" y="73080"/>
              <a:ext cx="9144000" cy="1440"/>
            </a:xfrm>
            <a:prstGeom prst="line">
              <a:avLst/>
            </a:prstGeom>
            <a:ln w="38160">
              <a:solidFill>
                <a:srgbClr val="193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0" y="150840"/>
              <a:ext cx="9144000" cy="1440"/>
            </a:xfrm>
            <a:prstGeom prst="line">
              <a:avLst/>
            </a:prstGeom>
            <a:ln w="38160">
              <a:solidFill>
                <a:srgbClr val="1938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2147760"/>
            <a:ext cx="9144000" cy="480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cc6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6626160"/>
            <a:ext cx="9144000" cy="0"/>
          </a:xfrm>
          <a:prstGeom prst="line">
            <a:avLst/>
          </a:prstGeom>
          <a:ln w="19080">
            <a:solidFill>
              <a:srgbClr val="193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Official_Pearson_Logo"/>
          <p:cNvPicPr/>
          <p:nvPr/>
        </p:nvPicPr>
        <p:blipFill>
          <a:blip r:embed="rId2"/>
          <a:stretch/>
        </p:blipFill>
        <p:spPr>
          <a:xfrm>
            <a:off x="609480" y="6095880"/>
            <a:ext cx="1143000" cy="430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smw3e_book_cover"/>
          <p:cNvPicPr/>
          <p:nvPr/>
        </p:nvPicPr>
        <p:blipFill>
          <a:blip r:embed="rId3"/>
          <a:stretch/>
        </p:blipFill>
        <p:spPr>
          <a:xfrm>
            <a:off x="6248520" y="2147760"/>
            <a:ext cx="1968480" cy="2594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291960" indent="-29196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538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4080" indent="-215640">
              <a:spcBef>
                <a:spcPts val="700"/>
              </a:spcBef>
              <a:buClr>
                <a:srgbClr val="fddca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14480" indent="-228600">
              <a:spcBef>
                <a:spcPts val="700"/>
              </a:spcBef>
              <a:buClr>
                <a:srgbClr val="e35c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06360" indent="-1904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06360" indent="-190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06360" indent="-19044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1752480" y="609588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8ec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smw3e_book_cover"/>
          <p:cNvPicPr/>
          <p:nvPr/>
        </p:nvPicPr>
        <p:blipFill>
          <a:blip r:embed="rId1"/>
          <a:stretch/>
        </p:blipFill>
        <p:spPr>
          <a:xfrm>
            <a:off x="1973160" y="0"/>
            <a:ext cx="519768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7950E62A-F240-4F29-831E-55C71159307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rite the idealized line with Greek letters and consider the coefficients to be </a:t>
            </a:r>
            <a:r>
              <a:rPr b="0" i="1" lang="en-US" sz="2800" spc="-1" strike="noStrike">
                <a:solidFill>
                  <a:srgbClr val="e35c01"/>
                </a:solidFill>
                <a:latin typeface="Arial"/>
              </a:rPr>
              <a:t>parameter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intercept and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l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ing to our fitted line of               , we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not all the individu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are at these means—some lie above the line and some below. Like all models, there are </a:t>
            </a: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err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343560" y="3371760"/>
          <a:ext cx="133344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43560" y="3371760"/>
                    <a:ext cx="13334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276720" y="3790800"/>
          <a:ext cx="2514600" cy="65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790800"/>
                    <a:ext cx="2514600" cy="65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D2C2ECED-69AD-446A-9EE5-AF5726BF1C7E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44680" y="1219320"/>
            <a:ext cx="8294400" cy="50292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ote the errors by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se errors are random, of course, and can be positive or nega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add error to the model, we can talk about individu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instead of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equation is now true for each data point (since there is a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soak up the deviation) and gives a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95480" y="3809880"/>
          <a:ext cx="312444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09880"/>
                    <a:ext cx="31244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F46F5EB3-8902-4825-8835-ADFC0AACE7A1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Assumptions and Conditions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apter 8 when we fit lines to data, we needed to check only the Straight Enough Condi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when we want to make inferences about the coefficients of the line, we’ll have to make more assumptions (and thus check more condit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be careful about the order in which we check conditions. If an initial assumption is not true, it makes no sense to check the later on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1BFEAD51-EF8B-4BBE-B0A2-E0AAD4E4E97D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Linearity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Straight Enough Cond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the scatterplot—the shape must be linear or we can’t use regression at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27-04aa"/>
          <p:cNvPicPr/>
          <p:nvPr/>
        </p:nvPicPr>
        <p:blipFill>
          <a:blip r:embed="rId1"/>
          <a:stretch/>
        </p:blipFill>
        <p:spPr>
          <a:xfrm>
            <a:off x="2538360" y="3695760"/>
            <a:ext cx="40910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F17B0F41-DCE3-4CF2-B47D-BAA0FCE98382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Linearity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catterplot is straight enough, we can go on to some assumptions about the errors. If not, stop here, or consider re-expressing the data to make the scatterplot more nearly lin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ative Data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The data must be quantitative for this to make 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5F3A5930-46B8-41C5-9595-8805116B76DC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Independence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Randomization Condi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individuals are a representative sample from the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residual plot (part 1)—the residuals should appear to be randomly scat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27_04"/>
          <p:cNvPicPr/>
          <p:nvPr/>
        </p:nvPicPr>
        <p:blipFill>
          <a:blip r:embed="rId1"/>
          <a:stretch/>
        </p:blipFill>
        <p:spPr>
          <a:xfrm>
            <a:off x="3352680" y="4038480"/>
            <a:ext cx="3124440" cy="26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1D70B4FC-F11B-435D-8790-C8CDA943E81E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Equal Variance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Does The Plot Thicken? Cond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the residual plot (part 2)—the spread of the residuals should be uni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27_05"/>
          <p:cNvPicPr/>
          <p:nvPr/>
        </p:nvPicPr>
        <p:blipFill>
          <a:blip r:embed="rId1"/>
          <a:stretch/>
        </p:blipFill>
        <p:spPr>
          <a:xfrm>
            <a:off x="2666880" y="3621240"/>
            <a:ext cx="3733920" cy="29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A659DC5C-A6E2-4277-A46C-D07C56417C4A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pic>
        <p:nvPicPr>
          <p:cNvPr id="154" name="Picture 4" descr="27_06"/>
          <p:cNvPicPr/>
          <p:nvPr/>
        </p:nvPicPr>
        <p:blipFill>
          <a:blip r:embed="rId1"/>
          <a:stretch/>
        </p:blipFill>
        <p:spPr>
          <a:xfrm>
            <a:off x="2819520" y="3962520"/>
            <a:ext cx="3581280" cy="26812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0000"/>
              </a:buClr>
              <a:buSzPct val="6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Normal Population Assump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arly Normal Cond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a histogram of the residuals. The distribution of the residuals should be unimodal and symmetr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5c01"/>
                </a:solidFill>
                <a:latin typeface="Arial"/>
              </a:rPr>
              <a:t>Outlier Cond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heck for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9F2CF2DA-9AAC-452F-8DB9-FE33A9C59782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302760"/>
            <a:ext cx="830556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Assumptions and Condition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94400" cy="49528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four assumptions are true, the idealized regression model would look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valu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re is a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that follows a Normal model, and each of these Normal models is centered on the line and has the same standard dev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27_07"/>
          <p:cNvPicPr/>
          <p:nvPr/>
        </p:nvPicPr>
        <p:blipFill>
          <a:blip r:embed="rId1"/>
          <a:stretch/>
        </p:blipFill>
        <p:spPr>
          <a:xfrm>
            <a:off x="2133720" y="2514600"/>
            <a:ext cx="4647960" cy="208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E51CB667-48A6-40BD-ACBE-606B86A9D7AF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Which Come First: </a:t>
            </a:r>
            <a:br>
              <a:rPr sz="3200"/>
            </a:b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Conditions or the Residuals?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a catch in regression—the best way to check many of the conditions is with the residuals, but we get the residuals onl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 compute the regression mode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ute the regression model, however, we should check the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work in this or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scatterplot of the data to check the Straight Enough Condition. (If the relationship isn’t straight, try re-expressing the data. Or stop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752480" y="60958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0 Pearson Education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39116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19385f"/>
                </a:solidFill>
                <a:latin typeface="Arial"/>
              </a:rPr>
              <a:t>Chapter 27</a:t>
            </a:r>
            <a:endParaRPr b="0" lang="en-US" sz="6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720" y="2437920"/>
            <a:ext cx="4572000" cy="22100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5c01"/>
                </a:solidFill>
                <a:latin typeface="Arial"/>
              </a:rPr>
              <a:t>Inferences for Regres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854F2108-2985-4D39-9729-B84062ACC34D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514600" y="2416320"/>
          <a:ext cx="29520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416320"/>
                    <a:ext cx="2952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2000"/>
          </a:bodyPr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ata are straight enough, fit a regression model and find the residual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predicted values,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scatterplot of the residuals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the predicted val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700"/>
              </a:spcBef>
              <a:buClr>
                <a:srgbClr val="fddca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lot should have no pattern. Check in particular for any bend, any thickening (or thinning), or any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data are measured over time, plot the residuals against time to check for evidence of patterns that might suggest they are not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Which Come First: </a:t>
            </a:r>
            <a:br>
              <a:rPr sz="3200"/>
            </a:b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Conditions or the Residuals?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5DCF0B7C-4E4D-44D5-9DB8-3FC18665495A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Which Come First: </a:t>
            </a:r>
            <a:br>
              <a:rPr sz="3200"/>
            </a:b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the Conditions or the Residuals?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catterplots look OK, then make a histogram and Normal probability plot of the residuals to check the Nearly Normal Cond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ll the conditions seem to be satisfied, go ahead with in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C44FD9FD-A6DB-4AF7-A882-3CC5F70FC8F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Intuition About Regression Inferenc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pect any sample to produce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ose expected value is the true slope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its standard devi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spects of the data affect how much the slope and intercept vary from sample to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01F2485C-8862-4C54-B5E4-58152EE729CA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Intuition About Regression Inferenc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pread around the li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scatter around the line means the slope will be more consistent from sample to sa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pread around the line is measured with the residual standard devi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ways fi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regression output, often just labe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79D08C38-B149-43C0-9D40-CFC6EF7443F9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Intuition About Regression Inferenc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Spread around the li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27-08a"/>
          <p:cNvPicPr/>
          <p:nvPr/>
        </p:nvPicPr>
        <p:blipFill>
          <a:blip r:embed="rId1"/>
          <a:stretch/>
        </p:blipFill>
        <p:spPr>
          <a:xfrm>
            <a:off x="380880" y="2743200"/>
            <a:ext cx="8382240" cy="2836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673200" y="5626080"/>
            <a:ext cx="7918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scatter around the line means the slope will be more consistent from sample to s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521C0D6C-3EC2-40B8-8417-01C37A16B3C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Intuition About Regression Inferenc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Spread of the </a:t>
            </a:r>
            <a:r>
              <a:rPr b="0" i="1" lang="en-US" sz="2800" spc="-1" strike="noStrike">
                <a:solidFill>
                  <a:srgbClr val="6666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’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large standard devi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s a more stable reg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27-09a"/>
          <p:cNvPicPr/>
          <p:nvPr/>
        </p:nvPicPr>
        <p:blipFill>
          <a:blip r:embed="rId1"/>
          <a:stretch/>
        </p:blipFill>
        <p:spPr>
          <a:xfrm>
            <a:off x="457200" y="3124080"/>
            <a:ext cx="8381880" cy="26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E8D7F0E4-8547-491F-BE66-874FD2757853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27-10a"/>
          <p:cNvPicPr/>
          <p:nvPr/>
        </p:nvPicPr>
        <p:blipFill>
          <a:blip r:embed="rId1"/>
          <a:stretch/>
        </p:blipFill>
        <p:spPr>
          <a:xfrm>
            <a:off x="457200" y="3048120"/>
            <a:ext cx="8229600" cy="264132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Intuition About Regression Inference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ff"/>
                </a:solidFill>
                <a:latin typeface="Arial"/>
              </a:rPr>
              <a:t>Sample siz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ing a larger sample siz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s more consistent esti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CCBA7BFD-A988-490E-94ED-5DB429C5B838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Standard Error for the Slop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aspects of the scatterplot affect the standard error of the regression slop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around the lin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alu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siz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ula for the standard error (which you will probably never have to calculate by hand)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971800" y="4896000"/>
          <a:ext cx="3352680" cy="12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896000"/>
                    <a:ext cx="3352680" cy="12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FE68070C-0382-4CD8-AB86-B5DBAF93C3DC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Sampling Distribution for Regression Slopes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conditions are met, the standardized estimated regression sl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 Student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odel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 degrees of fre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581280" y="2514600"/>
          <a:ext cx="228600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514600"/>
                    <a:ext cx="228600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E34DBD78-DC07-4E63-B268-BB48AAA73CAB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9385f"/>
                </a:solidFill>
                <a:latin typeface="Arial"/>
              </a:rPr>
              <a:t>Sampling Distribution for Regression Slopes (cont.)</a:t>
            </a:r>
            <a:endParaRPr b="0" lang="en-US" sz="30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4680" y="1599840"/>
            <a:ext cx="8294400" cy="48769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stimate the standard error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ordinary standard devia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276720" y="2038320"/>
          <a:ext cx="2590560" cy="9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038320"/>
                    <a:ext cx="259056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523880" y="3495600"/>
          <a:ext cx="2057400" cy="92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495600"/>
                    <a:ext cx="2057400" cy="9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9D2DD607-0F67-488F-B00C-3CD9B5A9DACF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An Example: Body Fat and Waist Siz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44680" y="135576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chapter example revolves around the relationship betwe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 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 siz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n inches). Here is a scatterplot of our data s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27-01a"/>
          <p:cNvPicPr/>
          <p:nvPr/>
        </p:nvPicPr>
        <p:blipFill>
          <a:blip r:embed="rId1"/>
          <a:stretch/>
        </p:blipFill>
        <p:spPr>
          <a:xfrm>
            <a:off x="1905120" y="2643120"/>
            <a:ext cx="525780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7B4A28D2-6B6C-4D82-9E97-7CF801B93BEC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About the Intercept?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reasoning applies for the intercep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e rarely use this fact for any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ercept usually isn’t interesting. Most hypothesis tests and confidence intervals for regression are about the sl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244680" y="2438280"/>
          <a:ext cx="1936800" cy="10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4680" y="2438280"/>
                    <a:ext cx="1936800" cy="10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84147655-78B1-4734-8F7D-FE4621CE1B96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Regression Inferenc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null hypothesis of a zero slope questions the entire claim of a linear relationship between the two variables—often just what we want to kn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est 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, we find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continue as we would with any oth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rmula for a confidence interval for </a:t>
            </a:r>
            <a:r>
              <a:rPr b="0" i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8120" y="5364000"/>
          <a:ext cx="31240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5364000"/>
                    <a:ext cx="3124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3352680" y="3311640"/>
          <a:ext cx="1828800" cy="109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311640"/>
                    <a:ext cx="182880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F2FE138F-9262-4349-8D28-FFF6570AED6A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*Standard Errors for Predicted Values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we have a useful regression, how can we indulge our natural desire to predict, without being irrespon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 have standard errors—we can use those to construct a confidence interval for the predictions, smudging the results in the right way to report our uncertainty hones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EBD40D52-6780-4872-AF19-46FFF24279C7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44680" y="1371240"/>
            <a:ext cx="8294400" cy="533412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u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 example, there are two questions we could as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want to know the me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 wit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 of, say, 38 inch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e want to estimate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 particular man with a 38-in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dict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ame in both questions, but we can predic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n 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n wh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is 38 inches with a lot more precision than we can predic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particular indiv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o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 happens to be 38 inch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7BBC1BEB-D69C-477D-A003-DCE54DB6078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start with the same prediction in both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predicting for a new individual, one that was not in the original data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 h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</a:rPr>
              <a:t>ν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8 inch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gression predic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819520" y="4038480"/>
          <a:ext cx="312408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038480"/>
                    <a:ext cx="312408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AFE01942-3296-42BE-9FC3-789BBED81FB9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intervals take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s will be different for the two questions we have po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124080" y="2133720"/>
          <a:ext cx="259092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133720"/>
                    <a:ext cx="259092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2C757A32-7A68-4DBC-B909-47FDF819C83F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4320" y="1600200"/>
            <a:ext cx="80658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error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dicted value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vary more than means, so the standard error for a single predicted value is larger than the standard error for the me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284120" y="5118120"/>
                <a:ext cx="70167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84120" y="2286000"/>
                <a:ext cx="62247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C82D0A22-AA47-4EFD-97B5-1C7FB12294E4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Standard Errors for Predicted Values (cont.)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291960" indent="-29196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in mind the distinction between the two kinds of confidence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538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rrower interval is a </a:t>
            </a:r>
            <a:r>
              <a:rPr b="1" lang="en-US" sz="2800" spc="-1" strike="noStrike">
                <a:solidFill>
                  <a:srgbClr val="e35c01"/>
                </a:solidFill>
                <a:latin typeface="Arial"/>
              </a:rPr>
              <a:t>confidence interval for the predicted mean 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l-GR" sz="2800" spc="-1" strike="noStrike" baseline="-25000">
                <a:solidFill>
                  <a:srgbClr val="000000"/>
                </a:solidFill>
                <a:latin typeface="Arial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538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der interval is a </a:t>
            </a:r>
            <a:r>
              <a:rPr b="1" lang="en-US" sz="2800" spc="-1" strike="noStrike">
                <a:solidFill>
                  <a:srgbClr val="e35c01"/>
                </a:solidFill>
                <a:latin typeface="Arial"/>
              </a:rPr>
              <a:t>prediction interval for an indiv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at x-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813A1C47-632B-4145-97FF-D4AE80E8304C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9385f"/>
                </a:solidFill>
                <a:latin typeface="Arial"/>
              </a:rPr>
              <a:t>*Confidence Intervals for Predicted Values</a:t>
            </a:r>
            <a:endParaRPr b="0" lang="en-US" sz="32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4680" y="1447920"/>
            <a:ext cx="387504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’s a look at the difference between predicting for a mean and predicting for an individu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olid green lines near the regression line show the 95% confidence interval for the mean predicted value, and the dashed red lines show the prediction intervals fo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27-12a"/>
          <p:cNvPicPr/>
          <p:nvPr/>
        </p:nvPicPr>
        <p:blipFill>
          <a:blip r:embed="rId1"/>
          <a:stretch/>
        </p:blipFill>
        <p:spPr>
          <a:xfrm>
            <a:off x="4572000" y="2057400"/>
            <a:ext cx="422424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E83641FE-3EE0-4E74-AEBC-1A06CA87685B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Can Go Wrong?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it a linear regression to data that aren’t stra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the plot thicke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prea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r predictions will be very good for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and very bad for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e errors are Nor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he histogram and Normal probability plot of the residuals to see if this assumption looks reason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2EE889FF-8D19-4425-873D-6A0859FEDAB4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Remembering Regression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gression, we want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relationship between two quantitative variables, one the predictor and the other the res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 that, we imagine an idealized regression line, which assumes that the means of the distributions of the response variable fall along the line even though individual values are scattered arou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940B2A20-9EDF-48F4-A1B2-7D967014AD0D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302760"/>
            <a:ext cx="830556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Can Go Wrong?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44680" y="1218960"/>
            <a:ext cx="8294400" cy="518148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extrap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’s always dangerous to predict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values that lie far from the center of the d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high-influence points and outli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out for one-tailed t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s of hypotheses about regression coefficients are usually two-tailed, so software packages report two-tailed P-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f9c5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re using software to conduct a one-tailed test about slope, you’ll need to divide the reported P-value in ha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A4F2E3A9-E2DA-4339-8F44-734EC85EF24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have we learned?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now applied inference to regression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certain assumptions, the sampling distribution for the slope of a regression line can be modeled by a Student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odel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 degrees of fre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eck four conditions, in order, to verify the assumptions. Most checks can be made by graphing the data and residu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6F73C5B0-137C-46C1-B9B3-A922B26B01F5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What have we learned?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use the appropri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model to test a hypothesis about the slope. If the slope of the regression line is significantly different from 0, we have strong evidence that there is an association between the two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and interpret a confidence interval or the true sl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been reminded yet again never to mistake the presence of an association for proof of caus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4AFF66E6-C9BD-43A2-9013-BBED02258590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Remembering Regression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we’d like to know what the regression model can tell us beyond the individuals in the stu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make confidence intervals and test hypotheses about the slope and intercept of the regression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AF5DF657-B4D0-4445-BD96-6C269487F984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The Population and the Sample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found a confidence interval for a mean, we could imagine a single, true underlying value for the me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e tested whether two means or two proportions were equal, we imagined a true underlying diffe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mean to do inference for regr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AF271526-38D1-42E2-ABCA-761474C01933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4680" y="152388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know better than to think that even if we knew every population value, the data would line up perfectly on a straigh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sample, there’s a whol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men with 38-inch wa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27-02a"/>
          <p:cNvPicPr/>
          <p:nvPr/>
        </p:nvPicPr>
        <p:blipFill>
          <a:blip r:embed="rId1"/>
          <a:stretch/>
        </p:blipFill>
        <p:spPr>
          <a:xfrm>
            <a:off x="2666880" y="3732120"/>
            <a:ext cx="3757680" cy="28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F566D28C-8CF6-40BC-9EA6-B612A373815E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rue at each waist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ould depict the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differ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zes like th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7-03a"/>
          <p:cNvPicPr/>
          <p:nvPr/>
        </p:nvPicPr>
        <p:blipFill>
          <a:blip r:embed="rId1"/>
          <a:stretch/>
        </p:blipFill>
        <p:spPr>
          <a:xfrm>
            <a:off x="1371600" y="3276720"/>
            <a:ext cx="6353280" cy="30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705024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lide 27 - </a:t>
            </a:r>
            <a:fld id="{05A4B8FF-CF29-4F0C-891E-77DB022991D1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3120"/>
            <a:ext cx="83055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9385f"/>
                </a:solidFill>
                <a:latin typeface="Arial"/>
              </a:rPr>
              <a:t>The Population and the Sample (cont.)</a:t>
            </a:r>
            <a:endParaRPr b="0" lang="en-US" sz="3600" spc="-1" strike="noStrike">
              <a:solidFill>
                <a:srgbClr val="19385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4680" y="1600200"/>
            <a:ext cx="829440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assumes tha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istribution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%body f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ai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fall along the line even though the individuals are scattered aroun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del is not a perfect description of how the variables are associated, but it may be use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cc6e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d all the values in the population, we could find the slope and intercept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dealized regression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icitly by using least squ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Addison Wesley</dc:creator>
  <dc:description/>
  <dc:language>en-US</dc:language>
  <cp:lastModifiedBy>PA Department of Education Classrooms for the Future</cp:lastModifiedBy>
  <cp:lastPrinted>2001-11-04T00:51:13Z</cp:lastPrinted>
  <dcterms:modified xsi:type="dcterms:W3CDTF">2012-04-29T19:24:55Z</dcterms:modified>
  <cp:revision>48</cp:revision>
  <dc:subject/>
  <dc:title>No Slide Title</dc:title>
</cp:coreProperties>
</file>